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EA5-D1C1-4DE8-8D46-488B3E09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BC4-E8AE-447C-9B08-504BA22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3F5-D598-4D52-A559-6A80FDE3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DD7-84E6-430A-8004-F368EF04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D7C-0AEF-40DA-B0E6-D5A0348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80B-018B-42D6-8854-C2B5B5E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0D2-A1CD-4353-932F-20CEC05F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CAB-06F9-4F0F-9242-00E99633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D40-1F36-40A9-88D5-B1C99B7F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26D-6902-40B6-933F-936BBC09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A1B-38F8-489F-A7AB-2AB126F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2C8-2C71-4B47-9339-CB50D70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FCB-52BA-43A6-A304-2978DE183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кови који делују на респираторни систем у трудноћ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мпликац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се рађају пре терм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а порођајна теж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натални морталитет повећ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гиналне хемора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укован и компликован порођ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т мајке (обично услед тензионог пнеумоторак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уднице са тешким обликом астме могу имати нормалну трудноћу и нормалан порођ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мају чешће спонтане побачаје у односу на здраве трудни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из ових трудноћа немају учесталије конгениталне малформа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тицај трудноће на аст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уднице са благом или умереном астмом имају побољшање тока астме у последњем ромесеч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више од једне трећине ово побољшање је праћено мањим или већим погоршањем после порођај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са тежим облицима астме могу имати више проблема у трудноћ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 астме код исте болеснице је најчешће идентичан у понављаним трудноћа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комим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илински препа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им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 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 у ку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ен и буђ у атмосф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уђ у затвореном просто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труднице како да се хра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ину о свом здрављу и избегавају штетне навике (дуван, каф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ирати порођај у време смањене концетрације алер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мајке о значају дојења до навршеног 8-ог месеца старости детета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крајњи хидролизат крављег млека за исхрану новорођенч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храна новорођенче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рсту храну увести 4-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е, рибу, орах, кикирики тек после дванаест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збегавање алергена у кућ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 постељину и прекриваче једном нед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специјалну постељину (навлаке за јастуке и душек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менити намешт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 потреби уклонити тепихе, пре свега у спаваћој соби уколико је дете преосетљиво на алергене кућне праши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лонити животиње из куће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 спаваће собе уколико је дете преосетљиво на животињску дла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072040" y="333360"/>
            <a:ext cx="378612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cto homini et erudito vivere est cogit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tremis malis extrema remed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стити кућу често и тем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инсектици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ен и буђ у атмосфер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ворити прозоре и врата и остати у кући када је концетрација полена и буђи у ваздуху вис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време започети лечење инфекције горњих и доњих дисајних путе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ити мере превенције за појаву инфек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, као и родитеље оболеле деце како да прекину са пушењем цигар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онити се дуванског д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кунд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пратити децу из породица у којима оба родитеља болују од астме или неког другог алергијског обољења плућ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тражити особе под ризик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ожне преосетљивости и одређивање укупног и специфичног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g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циј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тивна медикаментозна 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ознати пацијента са природом боле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кторима ризика за настанак погоршањ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га како правилно да користи инхалациону терапију и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eak-flow met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хватити разлику између лекова за брзо отклањање симптома и лекова за дуготрајну превенци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 да не избегава физичку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у симптома да спречи инхалацијама кратко делујућих бета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гониста или натријум-кромогликатом пре интезивног физичког напо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072040" y="333360"/>
            <a:ext cx="37861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ченом и образованом човеку живети значи мислити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 крајњој опасности и крајња средств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кцинација против грипа се препоручује трудницама са хроничном астмом и може се изводити током 2 и 3 тромесечја трудноћ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се такође сматра безбедном код болесница код којих је већ била у то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терапију не би требало отпочињати у трудноћи због ризика од анафилактичког ш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кутног погоршања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чности које садрже глук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раствора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кутано давање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метилпреднизол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пратропијум бро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апија у току порођа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бета2-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тео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или интрамускуларно хидрокорти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 који се користе у терапији астме ретко су штетни за де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би у млеку била најнижа концетрација лека, мајке које доје могу узети било који неопходан лек 15 минута после подо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кови које треба избегавати у трудница и дојиљ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адренергички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арати који садрже ј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тероидни антиинфламатор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таглан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и канами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трациклини и остали лекови који мугу бити штетни за пл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ТУБЕРКУЛОЗЕ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нтитуберкулотиц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категорија ризика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В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С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јихова примена (изузев стрептомицина) током трудноће не повећава инциденцу конгениталних аномалија, мртворођености или превремених порођаја у односу на општу попул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 избора за лечење туберкулозе у трудноћи је изониазид у комбинацији са рифампицином и етамбуто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су контраиндиковани у периоду лакт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 дужој употреби изониазида препоручују се периодични прегледи одојчета у односу на симптоме периферног неуритиса или хепатит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в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контраиндик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позитивне – рифампицин + изониазид + етамбутол (пиразинами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негативне – чекати до четвртог месеца трудноће, пратити. Међутим уколико су промене врло егзистентне са активном туберкулозом, може се започети лече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руг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нема посебних проблема дати рифампицин + изониазид + етамбут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еће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фампицин + изониазид + етамбут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 ризик је иктер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ти и укупан билирубин једампут у 10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око постоји биохемијски поремећај у крви, треба обуставити изон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кови за лечење респираторног система -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омолин натр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пратропиум бро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бута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нтелук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окром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фирлукас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бу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кломет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десон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низол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тик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апротерен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лме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офи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илеу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туберкулозе код жена које до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и лекови против ТБ могу се узимати истовремено са дојењ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јка и одојче треба да остану зајед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хранити дојењем на уобичајен начи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да прими профилаксу изониазидом, а 2-3 месеца касније и вакцину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 трудноћ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кују у способности проласка кроз плацентарну барије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 се 88% инактивише приликом проласка кроз плаценту, дексаметазон и бетаметазон пролазе лако непромењ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е се системски у трудноћи само ако користи од њихове примене у мајке превазилази ризик од штетних дејстава на фет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а системска примена у трудноћи носи ризик од застоја интраутериног ра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ресија надбубрежне жлезде у новорођенчета обићно спонтано пр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 дојењ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 примене дозе од 4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а, мала количина лека доспева у млеко и сматра се да није од клиничког значаја за дојенч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е дозе могу да супримирају надбубрежну жлезду дојенч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љке и чајеви – безбедни у лактациј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љ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ли л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умб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-ш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ериј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аје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ми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до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ипур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3286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ИНФЕКЦИЈЕ ГОРЊИХ РЕСПИРАТОРНИХ ПУТЕВА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з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лорфенамин (хлрорфенирам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хистаминик избора у трудноћи (седација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емас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прохепт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фенхидрамин  (дименхидрин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 високим дозама окситоцину-слични е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сила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р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кл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цетам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бупро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рокс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кстрометорф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на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е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од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адр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сеудоефедр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 бити повезан са настанком гастросх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мфенирами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с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та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тириз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ксофен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АСТМА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пидеми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и медицински проблем који може компликовати трудноћ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% трудница болује од аст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0% трудница има неки алергијски поремећ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оболеле од астме обично имају погоршања непосредно пре и за време менструалног циклу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нтролисана астма може имати штетан утицај како на трудницу тако и на пло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0:35:22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